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102A-10F9-4280-95EA-04D87B29B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7826-893F-428B-A1DE-243088799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B232-3045-4CEF-B899-17890D06F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C60A-AA24-4AC8-8818-E06192A25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6D97-D4EB-4FE2-A6A9-7509D987C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5872-955E-4C79-8BF7-044BC6DA4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9000-3DC3-42D6-B7BD-29BDC53AA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3290-2A38-4BFB-BC6D-070E3AC00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63DD-E333-4580-BD86-A14123A01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ACE8-E8CF-4457-9D8D-BEF634A9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C850-9442-4A86-BCAF-2F78FD18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29AD-ADD6-4AC8-8FAC-533B863F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CFF06-48CC-467D-9ED4-B419F60EDE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7426" t="16667" r="26518" b="28434"/>
          <a:stretch/>
        </p:blipFill>
        <p:spPr>
          <a:xfrm>
            <a:off x="0" y="-465120"/>
            <a:ext cx="9677520" cy="7323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0" y="3657600"/>
            <a:ext cx="3657600" cy="3200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bel as Many Countries As You Can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dia, Pakistan, Nepal, Bangladesh, Afghanistan, Ch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22860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el as Many Features as You Can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anges river, the Indus river, the Himalayan mountai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tta, Delhi. Karachi, Pakistan’s Northwest Terri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2590920" y="685800"/>
            <a:ext cx="6400800" cy="6172200"/>
            <a:chOff x="2590920" y="685800"/>
            <a:chExt cx="6400800" cy="6172200"/>
          </a:xfrm>
        </p:grpSpPr>
        <p:pic>
          <p:nvPicPr>
            <p:cNvPr id="45" name="" descr=""/>
            <p:cNvPicPr/>
            <p:nvPr/>
          </p:nvPicPr>
          <p:blipFill>
            <a:blip r:embed="rId1"/>
            <a:srcRect l="635" t="15245" r="45862" b="12110"/>
            <a:stretch/>
          </p:blipFill>
          <p:spPr>
            <a:xfrm>
              <a:off x="2590920" y="685800"/>
              <a:ext cx="6400800" cy="617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895480" y="3657600"/>
              <a:ext cx="447840" cy="235080"/>
            </a:xfrm>
            <a:custGeom>
              <a:avLst/>
              <a:gdLst/>
              <a:ahLst/>
              <a:rect l="l" t="t" r="r" b="b"/>
              <a:pathLst>
                <a:path w="282" h="148">
                  <a:moveTo>
                    <a:pt x="72" y="0"/>
                  </a:moveTo>
                  <a:cubicBezTo>
                    <a:pt x="60" y="22"/>
                    <a:pt x="41" y="30"/>
                    <a:pt x="24" y="48"/>
                  </a:cubicBezTo>
                  <a:cubicBezTo>
                    <a:pt x="13" y="58"/>
                    <a:pt x="4" y="81"/>
                    <a:pt x="0" y="96"/>
                  </a:cubicBezTo>
                  <a:cubicBezTo>
                    <a:pt x="24" y="132"/>
                    <a:pt x="71" y="144"/>
                    <a:pt x="112" y="148"/>
                  </a:cubicBezTo>
                  <a:cubicBezTo>
                    <a:pt x="184" y="144"/>
                    <a:pt x="186" y="138"/>
                    <a:pt x="244" y="132"/>
                  </a:cubicBezTo>
                  <a:cubicBezTo>
                    <a:pt x="246" y="126"/>
                    <a:pt x="247" y="120"/>
                    <a:pt x="252" y="116"/>
                  </a:cubicBezTo>
                  <a:cubicBezTo>
                    <a:pt x="254" y="113"/>
                    <a:pt x="261" y="115"/>
                    <a:pt x="264" y="112"/>
                  </a:cubicBezTo>
                  <a:cubicBezTo>
                    <a:pt x="270" y="101"/>
                    <a:pt x="271" y="76"/>
                    <a:pt x="276" y="64"/>
                  </a:cubicBezTo>
                  <a:cubicBezTo>
                    <a:pt x="248" y="45"/>
                    <a:pt x="282" y="65"/>
                    <a:pt x="228" y="52"/>
                  </a:cubicBezTo>
                  <a:cubicBezTo>
                    <a:pt x="206" y="46"/>
                    <a:pt x="191" y="26"/>
                    <a:pt x="168" y="24"/>
                  </a:cubicBezTo>
                  <a:cubicBezTo>
                    <a:pt x="133" y="20"/>
                    <a:pt x="96" y="28"/>
                    <a:pt x="64" y="16"/>
                  </a:cubicBezTo>
                  <a:cubicBezTo>
                    <a:pt x="58" y="13"/>
                    <a:pt x="69" y="5"/>
                    <a:pt x="72" y="0"/>
                  </a:cubicBezTo>
                  <a:close/>
                </a:path>
              </a:pathLst>
            </a:custGeom>
            <a:solidFill>
              <a:srgbClr val="bdd5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513560" y="3795840"/>
              <a:ext cx="379440" cy="98280"/>
            </a:xfrm>
            <a:custGeom>
              <a:avLst/>
              <a:gdLst/>
              <a:ahLst/>
              <a:rect l="l" t="t" r="r" b="b"/>
              <a:pathLst>
                <a:path w="239" h="62">
                  <a:moveTo>
                    <a:pt x="171" y="9"/>
                  </a:moveTo>
                  <a:cubicBezTo>
                    <a:pt x="117" y="10"/>
                    <a:pt x="62" y="0"/>
                    <a:pt x="11" y="13"/>
                  </a:cubicBezTo>
                  <a:cubicBezTo>
                    <a:pt x="0" y="15"/>
                    <a:pt x="12" y="35"/>
                    <a:pt x="19" y="45"/>
                  </a:cubicBezTo>
                  <a:cubicBezTo>
                    <a:pt x="27" y="58"/>
                    <a:pt x="50" y="51"/>
                    <a:pt x="67" y="53"/>
                  </a:cubicBezTo>
                  <a:cubicBezTo>
                    <a:pt x="112" y="56"/>
                    <a:pt x="157" y="58"/>
                    <a:pt x="203" y="61"/>
                  </a:cubicBezTo>
                  <a:cubicBezTo>
                    <a:pt x="212" y="59"/>
                    <a:pt x="223" y="62"/>
                    <a:pt x="231" y="57"/>
                  </a:cubicBezTo>
                  <a:cubicBezTo>
                    <a:pt x="237" y="51"/>
                    <a:pt x="239" y="33"/>
                    <a:pt x="239" y="33"/>
                  </a:cubicBezTo>
                  <a:cubicBezTo>
                    <a:pt x="231" y="28"/>
                    <a:pt x="221" y="26"/>
                    <a:pt x="215" y="21"/>
                  </a:cubicBezTo>
                  <a:cubicBezTo>
                    <a:pt x="192" y="2"/>
                    <a:pt x="208" y="2"/>
                    <a:pt x="171" y="9"/>
                  </a:cubicBezTo>
                  <a:close/>
                </a:path>
              </a:pathLst>
            </a:custGeom>
            <a:solidFill>
              <a:srgbClr val="b9cc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c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17680" y="2181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957560" y="1905120"/>
            <a:ext cx="40881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ocial Proc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hr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 Ori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Ge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ltural Geograph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Adaptive System 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verty Tr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nd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idity Tr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graphical Thi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ntbat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ecis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War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981080"/>
            <a:ext cx="4419360" cy="49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iritual Father of In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rst Prime Minister of In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Last Viceroy of In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framework for analyzing who gets what ho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framework for analyzing how decisions are made and implemented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framework for analyzing the history of  problem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four stage cycle of innovation, conservation, creative destruction and reorganiz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 enough capita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 enough connectivit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derstanding how location and proximity of different cultures and terrains impact  human affairs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ctonics, climate, soil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igion, governance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id both cultural and physical  geography impact the birth of Indi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id both cultural and physical geography impact the birth of Pakist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cultural and physical geography influence narcotics trafficking in Pakista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geographical thinking to analyze the problem (problem orientation) of illegal immigration in the U.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 Evalu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160" y="14475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lease describe what you liked and disliked about each class fac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c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dio Visual Cont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r Location in the Univer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st Vicero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ffi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mework Assign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al 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ggest Other Ways to Improve Student’s Geographical Thin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3T17:14:35Z</dcterms:created>
  <dc:creator>lucy/laffitte</dc:creator>
  <dc:description/>
  <dc:language>en-US</dc:language>
  <cp:lastModifiedBy>lucy/laffitte</cp:lastModifiedBy>
  <dcterms:modified xsi:type="dcterms:W3CDTF">2011-03-14T03:54:41Z</dcterms:modified>
  <cp:revision>6</cp:revision>
  <dc:subject/>
  <dc:title>PowerPoint Presentation</dc:title>
</cp:coreProperties>
</file>